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3093-319F-42AC-811B-508E4D24067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Prevalence based on populations from 2001 census. Children were then 2-9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D14-6635-4C03-BEFE-35F50A9C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058-9A75-44DF-BA99-DB00CCA4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7E1-3D00-418F-8EA1-60429C64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92C-CD27-4E8A-BDBF-78A415F1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51D-BBA8-4884-B139-96D73998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24C-FF42-4ED6-8135-82B49B01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802-F7F5-4C32-A4BA-7FBBED26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216-40F6-4A40-B326-36BA0548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DA6-C5C7-4568-9F42-497D0C59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B5F-930B-4661-A911-7AC80936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443-3A52-4740-8F16-265C2704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EED-763B-4E8E-93CB-B6E56F80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8FF0-ED5D-41D4-8897-532D83949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ocioeconomic Status &amp; Permanent Hearing Los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Anne Greville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Greville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Auckland, 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3336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808000"/>
                </a:solidFill>
                <a:latin typeface="Times New Roman"/>
              </a:rPr>
              <a:t>Audiological Society of Australia biennial conference</a:t>
            </a:r>
            <a:br>
              <a:rPr sz="2000"/>
            </a:br>
            <a:r>
              <a:rPr b="0" lang="en-NZ" sz="2000" spc="-1" strike="noStrike">
                <a:solidFill>
                  <a:srgbClr val="808000"/>
                </a:solidFill>
                <a:latin typeface="Times New Roman"/>
              </a:rPr>
              <a:t>Perth, WA</a:t>
            </a:r>
            <a:br>
              <a:rPr sz="2000"/>
            </a:br>
            <a:r>
              <a:rPr b="0" lang="en-NZ" sz="2000" spc="-1" strike="noStrike">
                <a:solidFill>
                  <a:srgbClr val="808000"/>
                </a:solidFill>
                <a:latin typeface="Times New Roman"/>
              </a:rPr>
              <a:t>May 19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ES Measure: deciles 1-10 (10 most depri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Fairly even distribution into tenths of total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For children &lt; 15 years, 13% are in decile 10, 8% decil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Over 20% of Maori population in decile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40% of Pacific Island population in decile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Birth yea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1376280"/>
            <a:ext cx="77040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Number of deaf children per decil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1330200"/>
            <a:ext cx="7488360" cy="48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609480"/>
            <a:ext cx="79185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Decile and age (at 2001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6327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808000"/>
                </a:solidFill>
                <a:latin typeface="Times New Roman"/>
              </a:rPr>
              <a:t>Deafness prevalence &amp; deprivation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378080"/>
            <a:ext cx="770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Ethnic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127944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808000"/>
                </a:solidFill>
                <a:latin typeface="Times New Roman"/>
              </a:rPr>
              <a:t>H/Loss moderate or greater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6920" y="1465200"/>
            <a:ext cx="749016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70400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808000"/>
                </a:solidFill>
                <a:latin typeface="Times New Roman"/>
              </a:rPr>
              <a:t>H/Loss moderate or greater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1176480"/>
            <a:ext cx="7848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3534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808000"/>
                </a:solidFill>
                <a:latin typeface="Times New Roman"/>
              </a:rPr>
              <a:t>Maori deaf children cf Maori population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26920" y="1276200"/>
            <a:ext cx="75614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400" spc="-1" strike="noStrike">
                <a:solidFill>
                  <a:srgbClr val="808000"/>
                </a:solidFill>
                <a:latin typeface="Times New Roman"/>
              </a:rPr>
              <a:t>Thanks to…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The Deafness Research Foundation of New Zealand for support of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The National Audiology Centre for access to the deafness database &amp; assistance with sourcing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Simon Jellie of e-Spatial for help in geo-coding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Cause of deafnes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1325520"/>
            <a:ext cx="813744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808000"/>
                </a:solidFill>
                <a:latin typeface="Times New Roman"/>
              </a:rPr>
              <a:t>Cause of deafness among Maori children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0908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Household income level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981080"/>
          <a:ext cx="7772400" cy="45579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nic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household 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$,00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ific Is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n New Zealand, there is no apparent effect of SES on congenital hearing loss for ethnic groups other than Ma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mong the Maori children, unknown cause &amp; family history are the major caus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…</a:t>
            </a:r>
            <a:r>
              <a:rPr b="0" i="1" lang="en-NZ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i="1" lang="en-NZ" sz="4400" spc="-1" strike="noStrike">
                <a:solidFill>
                  <a:srgbClr val="808000"/>
                </a:solidFill>
                <a:latin typeface="Times New Roman"/>
              </a:rPr>
              <a:t>and</a:t>
            </a: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Does a family history of deafness in Maori mean that the family is more likely to live in a low SES ar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Maori deaf/hearing impaired children are more likely to live in a low income household than are deaf children from other ethnic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400" spc="-1" strike="noStrike">
                <a:solidFill>
                  <a:srgbClr val="808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Why look at SE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Kubba, MacAndie, Ritchie &amp; MacFarlane </a:t>
            </a:r>
            <a:br>
              <a:rPr sz="3200"/>
            </a:b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Is deafness a disease of poverty? The association between socio-economic deprivation &amp; congenital hearing impairment</a:t>
            </a: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nt J Audiol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:123-5 (2004)</a:t>
            </a:r>
            <a:br>
              <a:rPr sz="3200"/>
            </a:b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hildren in Glasgow born 1985-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808000"/>
                </a:solidFill>
                <a:latin typeface="Times New Roman"/>
              </a:rPr>
              <a:t>Kubba et al, Glasgow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9640" y="1398600"/>
          <a:ext cx="799308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98600"/>
                    <a:ext cx="799308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Fortnum, Marshall &amp; Summerfield</a:t>
            </a:r>
            <a:br>
              <a:rPr sz="3200"/>
            </a:b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Epidemiology of the UK population of hearing-impaired children, including characteristics of those with &amp; without cochlear implants – audiology, aetiology, comorbidity &amp; affluence</a:t>
            </a: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nt J Audiol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Times New Roman"/>
              </a:rPr>
              <a:t>4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:170-9 (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808000"/>
                </a:solidFill>
                <a:latin typeface="Times New Roman"/>
              </a:rPr>
              <a:t>Fortnum et al, UK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511280"/>
            <a:ext cx="755964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Methodolog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Hearing impaired &amp; deaf children notified to the National Audiology Centre’s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Limited to children born 1992 – 199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hildren with acquired or unilateral hearing loss &amp; those born overseas exclu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808000"/>
                </a:solidFill>
                <a:latin typeface="Times New Roman"/>
              </a:rPr>
              <a:t>Sampl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828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696 children with unambiguous addr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693 children were geocoded into unique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meshblock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(approx 100 peo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Decile ratings available for mesh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Socioeconomic Measur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NZ Dep2001 Index of Deprivation</a:t>
            </a: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almond &amp; Crampton (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Based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qualifications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living space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owned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2:55:45Z</dcterms:created>
  <dc:creator>--</dc:creator>
  <dc:description/>
  <dc:language>en-US</dc:language>
  <cp:lastModifiedBy>Anne</cp:lastModifiedBy>
  <dcterms:modified xsi:type="dcterms:W3CDTF">2006-05-26T01:11:09Z</dcterms:modified>
  <cp:revision>44</cp:revision>
  <dc:subject/>
  <dc:title>Towards an Understanding of Client Outcome Measures</dc:title>
</cp:coreProperties>
</file>